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9B2-22FB-4C27-A5E6-A3ECE0BC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A28-B64A-4FF3-B1C3-6FE95B30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7D70C-ED43-40BE-8CF4-5D32AA18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C4C41-9DD7-49AB-B862-250B3AC0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B03B2-9AE2-45C9-BD76-9D3E6A9F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AE849-2FD4-47F0-B23C-BCBAFE0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C5520-A844-4046-A56B-41C35D0A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2EEE8-7342-42A7-BB38-4B2ED4E0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3B6DE-EC1F-419F-89CB-245F3DCE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6F8F6-33CC-4E8B-BDF3-FC4B3186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014B5-189D-41D4-ABBA-AB92358C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B5A1F-A4A4-400C-9E18-26A6515C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F0C-8A6C-408A-B2E9-FD9CC997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5558C-610A-4F46-A97A-05A1BA1C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CBB3D-9A27-404B-B008-8CF324C1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E9DF3-5A4F-4567-B90F-F8F49F7B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670C1-3AE6-4A94-A8D5-EB8DBF27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40B60-3579-4D1D-AC99-4F73009C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240AD-DE0D-4FCB-9E4B-3680156D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A7E95-845E-4BD6-A7EB-4B6F3C73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99416-0094-4E34-A334-4E7ACCA9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CD0ED-D5FE-4443-9E57-089EEA37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A9E83-07B9-44AB-8512-2705077A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658-1232-4A5E-8EF3-9181E02C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C0F36-9B3C-4BDD-8B22-DB5AD27E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74106-630E-47D3-8B96-75D27520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BC83C-F9FB-44EF-95C7-DB10A3E2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503AC-9B42-418B-9B61-700EA3D6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BE2DC-F5B1-4F9C-B9A5-D399F4C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45D33-7235-460A-BF27-E6A24C30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24AB3-10E3-4B92-96D9-33FAB952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18923-0843-4289-A3FC-C31ACCA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21ABE-C631-45B2-8AC2-DAF2E0D7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20A86-6531-4D90-B758-593557B2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8C9E-53EC-42BF-9AAF-FB446038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05DFD-93BA-4AB6-AD82-E3DEB5BA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8CCFE-14A1-4C13-9ACF-6CC13155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999DC-2913-4991-8A0C-5EC236B0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F4A4E-CEF9-4B19-B873-145C82DA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85067-3F75-4EE7-BC6B-BD2239D4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687DA-2C14-40E0-8613-6D5CA724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8AB7F-2D67-4842-A790-934A9C14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BBFBD-F2F3-4ADC-BD6A-348F184C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30A55-BE0F-4E59-AAF6-331E16EA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5B0E5-486A-47B5-9F3F-9240576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96B2-0C50-45C0-8F70-AFC16423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6C002-C038-4721-A1A0-2E1DBE7C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7EC20-D60E-48B9-B796-9801AA19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4C9C6-C11F-4FF5-8CCB-DE8B4617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48A33-1CC3-4283-B725-040127CA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3783D-ACD3-4478-BD66-AAC5FC54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64932-60DD-4646-ACD5-9573962D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B77EA-C7A4-44CD-9622-BFB01FC0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D233F-5EDE-4278-A081-810C3492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15647-99E5-40BA-B9DB-EBBB7BD1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0AFDF-4347-4F5B-94A7-F7FB9EEB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BAAE-48AB-4EED-8E29-58F50D17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6A563-EC0F-47E7-93BB-02F29C83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90730-CF23-416C-96BD-DF0F1EC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5EE19-A5F0-40E1-952C-460FA2B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B93AC-40BC-492A-AD5A-7CAA6ABC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F6D8A-0CE7-48F8-8EFA-C583BE69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CFFF4-A3FA-46E8-9E0B-E269353B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119E9-5B9C-4FE8-9AAE-9316B9D3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2B1DA-5341-424F-B32A-1254A26F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C41B2-0201-4770-97C4-2C462BB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3FC8B-3888-4929-9491-521C66FF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88B0-443B-45D1-B978-0331F4C9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0F512-392F-42E1-BB05-471E86BD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57274-C1FF-4729-B155-76E97791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E5639-2234-48AB-A394-5ED1166B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823B5-3225-4D93-AF51-5EF00EC4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114AD-5969-4619-9A07-5E3CD5BB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09418-162D-40D2-A529-815BBC8F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67E81-67A0-4E48-8F18-83FCFE3B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4A25B-5541-40F7-A3A0-5AE0EA43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CA33A-4C6A-4F9E-AA4F-A0A728C9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949E5-302B-48A8-9703-88462070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ED16-A0FB-44F3-830D-D8455C90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F2EFB-CACE-47DA-BC62-D4173559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01CB6-CD5F-43C4-88F7-E1D6874D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55DE0-36F1-4B2C-9781-8ECF6BA7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0E110-C3C2-4D8D-B732-3E676EED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49448-6037-4CBB-97B6-890AD5FB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D88C26-DF26-4351-9690-0526ACDC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BF274-3ACE-4629-8B9E-5653BE8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00B68-F257-4CDB-8A68-1E729DC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3AC39-1B32-4403-B9CB-9D131D08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C38BE-2567-428E-AF93-67C6484B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18DD-81DB-4F75-9844-A1C63A19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A1063-2691-4DDF-B768-93BE2BC6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D83DA-57EA-4C1B-97DB-5B97D146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45C5A-B2EF-48FF-97DB-985BDE92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74C1C-25B9-4A12-85E3-69EA2E0E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02C37-FF45-471D-B55D-1240FA90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9B8CC-1260-4584-BCAF-74917DC4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5AB69-75BC-4E5A-B471-3EACC9FF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4B8F2-1434-4CAA-9EE1-FBA2DCE4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0DCF7-5C3B-468C-8D51-303430F0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DB6E6-2933-4DDF-A52C-34AFF099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24AE-F323-470D-B806-61040561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8245B-1EC6-486A-8E66-A49500F8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5AC8F-66EF-4AEA-8D1A-AA651775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58701-BDF6-43CE-AFFC-97BE87DE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ED121-8D0E-4E64-B586-73578F2D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901CF-DD89-473A-9FFA-9FA0C2AB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F590F-22EA-48D2-B925-43363B6A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308F5-8534-4E59-8AE2-EA5B1C30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71BC2-F0C6-4F77-8300-17A0B4E0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1F0B4-E683-4DFB-A35C-13C50EB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24940-EB9A-456E-9708-64530D8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C4B-842F-4724-A421-413EF978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566-455A-46EE-A199-7022952E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CA2E72-A355-448F-971D-1C9E4F0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00A1E-56CA-4684-92CB-6FFDC7B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10CF96-C9D2-4B9E-BA04-FBCBC509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6CF4D-08FF-4794-8823-5E537C35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0A309-FAA4-466A-A8DD-DB83B2AE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F582F6-0367-49E0-8FF7-B750F8DB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6EAC4-56FF-4EAC-B6C5-B739B3DF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80317-7A1F-461D-B9C4-4A26A82A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B4CAA-49BD-417B-99CF-2CB31B80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49E7A-2805-4CF7-AA42-F60FD11B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E495-E0E8-411B-87CC-EA9A6C7D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A869E-FF69-4444-89DF-7F1AFF19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0A9B7-27C7-4990-AC81-21ED0A2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7D592-2220-4AAD-BFF4-28B3F82B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ACB78-80E1-492D-9F3E-C7B6BBAC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002F6-E60A-4A3D-9514-219B1F3F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8CB22-DCD4-4213-B656-9CE614E5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40BDCD-34EB-4AB3-91F9-3551920B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515D72-3CCC-494D-B028-3C829A29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874C4-D0AD-43DF-81FA-9411A1EE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ECB4F0-2C76-4AE8-8050-256E2C37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A2A6-C452-47DC-B6FE-102B3B77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F306D1-4FB4-4092-9ABB-F5B04542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8C9B6A-2FBA-4461-A96B-F259F811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02CFE-C46F-44F0-9266-C32D7AA4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5BFBC-597C-4990-905B-95F19FD1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4CE4B-00B6-4C4E-9711-1EED10F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3D90BE-4856-4E45-862C-BF84E553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50F32-738D-45EF-A246-555511BD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419D63-55AC-4279-9C14-3A22F5DA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8C5264-7C8D-429D-808B-33882E06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279C49-A3BB-4CA7-81DA-692CBB4F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8E4E-3648-4C59-B32C-8E6F8651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FAC98-A527-42C7-9E43-0FFFD2B2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1BE6A-505F-4B3C-9FF0-BD6236EE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DB2FF-3274-4585-A787-87D6CEC3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AB547D-556B-4CAB-A15C-80718006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CC4460-0771-4BFC-B7C3-8CEA0711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241F8-AA11-4439-90D2-951CB78A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EB5666-1DD2-44ED-B96A-39876E1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7747F-7FCF-469F-B4F1-3A9D269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53110-AA5D-4FA6-96E0-0071B5F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15361-8933-4207-B25C-2F6AB058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8433-9289-4E54-BABE-51D51635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7BEE4-6FFB-4BCF-84E8-D18B177D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A38BDF-6A30-4178-A41C-A1E018BF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2F7A10-11C3-4071-996F-0D2756A4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48AD9B-D524-42E9-94CC-93EC50E5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8288B4-8ACF-4076-AF2C-B8F5F49D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4E5E5-ADBD-4EAE-9E79-E14ABD7E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847A9D-89B1-4B8D-AFE4-01C17F34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1C835-7A05-443E-8955-96AC8FA4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16CA6F-DEBA-4078-8DD9-EBE6822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5C20C1-C115-49A7-BDB7-45911583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1E7B-6808-48E4-A1BA-8FC90EAF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D8D6CE-8FF4-4A6B-BCDD-7B76BABB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B71B2-B3DE-4B08-AEC4-2303733A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E6DCFC-DFA9-42B5-8D6D-177323C1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4429-DF82-4DC7-BC69-C37D464E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EE34-6B36-413B-B3E2-6C8BACA6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556F2-0368-40C5-8C8D-A659A531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A157A-6241-4E7B-93C7-3B8E611A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EC8-7147-4D34-8A2F-953C7965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E967-8954-4086-B703-27DEABD2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DB25-6348-45DB-96CE-31D48B1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3AAE-B6EE-4626-A10A-1F3EB91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03AE7-DC52-4049-B1D6-E1EF9282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F04E-FC9F-4E4F-A2FF-8E395079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C3F9-C9A0-4242-9B23-17F09CA7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3C41-52DA-4D07-9C5C-E6779ECE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6354-6B07-460B-A9E0-609C881D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5D8D-7C1A-47C4-8A24-ACFFB56F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A4FC2-AFD9-4C88-B025-99CC5CF4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957-600D-4C16-889C-ADF01E77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EA2E-BB04-4E73-BA81-614BB874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7621-90DA-4461-ACB1-51D649BE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3A1A-B17C-4FF1-ABD4-4A03A963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5659E-E028-413F-B19B-6F75288B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D355-C603-41BE-8888-1961C27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505E1-47C1-4F7F-88A8-92CE6FA6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1E9B-B9D7-4AF0-9A0C-8FF8FF3C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739B5-0FAB-49F6-9EC8-D6E0C21A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A4E1-49DC-4DF3-AE97-EDB76291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AA841-B6FD-475D-B6B4-AC986F4D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75B-A760-4035-AE90-697EB3DC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A9A9-7686-4FDB-A311-F19D4FCD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9F12-407B-43CF-AABE-D03712A2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3E589-5EE8-457D-BB89-9A5AE8ED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3037-CEFD-4295-9483-1C4F027E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285B-1C76-4D67-BB2E-56B4F18C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33AA9-9FF5-43D6-A96A-D1C728B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A3028-6608-4E4A-B7D2-90E31307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62DF-272D-44A9-87DF-8F2FB1D4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DB300-FDB4-4049-B88F-301DDE97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205A9-9B5D-447E-8DAD-1A4DCDE9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22A-D57A-4FE0-ACB2-D515E523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D74E4-B0EA-4953-8A05-352E2161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8870E-147D-43B6-B1FF-38B7C0DE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6FEEA-8C55-4301-AB17-FCD6ECAD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81F68-5755-4C6E-9686-A3AD6BB7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6F68E-CD62-4F55-8453-ECC33F4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A573-C9E1-4F69-990E-F04B7E38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8399-9090-44EE-ADC0-31A2773D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48261-280E-403C-BF0B-EEA80A5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95524-EDFE-4999-95C0-B853BBE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525AC-38C0-4C36-9195-9368DCB1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B4F-58E9-4E32-9552-233D547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E5418-46AE-440E-BB13-65BB2E56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5034D-7FE8-493C-BEBA-55F6A888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3BCC8-CBC7-4370-95D1-B6B551C3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D173D-AFAF-4369-A648-CAEF2E53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8B7E0-63B8-4FCD-938C-09374D01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0FE0F-5680-48D4-BD38-C0B4DAE6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C75C0-BDCB-487B-9F21-EF8635E3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DD528-7594-48CB-8DD9-BFE11D2D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732F-571B-4E86-80A8-A438F023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39191-2890-4A79-8858-5E1A11F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F39-209D-48A2-A9BF-8A6468A4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4D92-435B-47A9-990F-2EF925D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5832D-ABB8-4BF8-9EA8-A19DD7D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E56D9-D1B2-49BF-B2EB-0478484B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0289-DD8E-43C1-8E2D-3116F32D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32194-6284-4457-83D7-6119901B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3099F-117F-4E2E-961C-679D5555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4BC4A-E5D8-422D-8E53-0CFAB5BD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D5397-C832-4D77-8A81-60DA0DDB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6B1A3-A79F-49D0-92C1-461387CE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FC779-C480-4D7A-99D9-DE1BC5B4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46E-5A87-4BC7-AF5E-EF861A1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BE430-EB0D-4729-A215-8D4F0C74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60A60-8C99-4927-86F0-AFCB5E4B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3193-2352-447D-AA68-5039F227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DDDAA-8669-4365-BA23-7039B116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9127-F41E-4633-BFDC-6BA64D0E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97A91-8077-42D1-B65C-6DC42D09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84D3D-2126-4F27-BDEF-09FADE65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C1010-3028-4470-966F-AFF9B977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4B9A2-19C6-4E5C-8A24-21C87875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029BD-CE91-430C-9DDD-591A8A8B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B445-5C1C-42B4-95FC-6B0F510EB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97F6-C4B9-4DBA-BFFE-4983951422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6B2C-A3EB-487D-8991-DD12C7FA2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45DF-256B-4970-8A89-9467F9A215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F697-372A-4482-A2A2-456B4811E0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B285-86C5-4980-B8B8-308F75A79C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37D5-39F4-4FDD-AE45-9E53F4E2A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6746-5ADD-4F96-A227-08B036669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787F-D09A-4485-ACCF-25646A4330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5AD0-4273-452D-B577-E64A33396B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C16D-93BB-4E34-BDE5-27EC46B1AF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658F-1430-40F3-8B6F-4CD7554F1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CFB1-398B-4455-9157-697CE7F610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A894-7065-4058-A093-23DF3AEC6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A871-DDA8-477F-92D8-8CBCC333E9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B4C8-2BA5-4789-8678-DDC54592D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F2DF-6B56-438C-AB09-C8707AFECD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3F10-4241-49F5-A2A8-9FB692A70C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E251-B11B-4A8A-853C-B8B24C88A3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1FB8-0CE7-413C-8DD0-2FE8CBFBC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01A9-46BF-4FD2-AECA-6CC0E7672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D76-3737-4091-9517-0B900188C0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4DC3-4D4F-41EE-A358-59B7A8CF5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E6F2-14A3-43A9-AD8A-906A05EBA8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F45C-CB62-4478-9A23-3BA3C2049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14C2-A5DD-4634-AA03-A5D5A67E4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5D4F-A023-4457-8BA0-98E98B74F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F123-82A7-4770-8C2E-05CF201A3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8A9E-AEE0-44FD-9BA2-101CD433AF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CE8-F26B-4400-8E6F-A1235D8B78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CEE9-DAB5-4D9C-BF47-EF04D5AD8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9C97-3058-4D1C-B6CB-E4B04C01C9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548E-20BA-4A54-ACD6-3D93D658F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1908-E3FD-4F49-8B19-8B3A4D3F1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AC48-F14E-46A3-9822-8E9F0AC31C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730A-8E20-40B3-AF8E-CF65CD7AF7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2D4-24B3-4B57-8651-FEC506228A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D270-FB17-4CC1-BD54-5DFCF687D1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2F27-EC18-4396-B6DB-F67013FBC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C86-B444-4168-9090-446B61BE94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09680" y="3166920"/>
            <a:ext cx="83246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98280" y="115920"/>
            <a:ext cx="8866440" cy="64008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3"/>
          <a:stretch/>
        </p:blipFill>
        <p:spPr>
          <a:xfrm>
            <a:off x="801720" y="692280"/>
            <a:ext cx="81630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2" name="组合 5125"/>
          <p:cNvGrpSpPr/>
          <p:nvPr/>
        </p:nvGrpSpPr>
        <p:grpSpPr>
          <a:xfrm>
            <a:off x="114480" y="785880"/>
            <a:ext cx="8915400" cy="5799240"/>
            <a:chOff x="114480" y="785880"/>
            <a:chExt cx="8915400" cy="5799240"/>
          </a:xfrm>
        </p:grpSpPr>
        <p:pic>
          <p:nvPicPr>
            <p:cNvPr id="1033" name="图片 1" descr=""/>
            <p:cNvPicPr/>
            <p:nvPr/>
          </p:nvPicPr>
          <p:blipFill>
            <a:blip r:embed="rId1"/>
            <a:stretch/>
          </p:blipFill>
          <p:spPr>
            <a:xfrm>
              <a:off x="114480" y="785880"/>
              <a:ext cx="8915400" cy="57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1" descr=""/>
            <p:cNvPicPr/>
            <p:nvPr/>
          </p:nvPicPr>
          <p:blipFill>
            <a:blip r:embed="rId2"/>
            <a:stretch/>
          </p:blipFill>
          <p:spPr>
            <a:xfrm>
              <a:off x="1187280" y="1700280"/>
              <a:ext cx="5977080" cy="6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1" descr=""/>
            <p:cNvPicPr/>
            <p:nvPr/>
          </p:nvPicPr>
          <p:blipFill>
            <a:blip r:embed="rId3"/>
            <a:stretch/>
          </p:blipFill>
          <p:spPr>
            <a:xfrm>
              <a:off x="7020000" y="1758960"/>
              <a:ext cx="18000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1" descr=""/>
            <p:cNvPicPr/>
            <p:nvPr/>
          </p:nvPicPr>
          <p:blipFill>
            <a:blip r:embed="rId4"/>
            <a:stretch/>
          </p:blipFill>
          <p:spPr>
            <a:xfrm>
              <a:off x="8101080" y="1685880"/>
              <a:ext cx="43164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7" name="直接连接符 5126"/>
          <p:cNvSpPr/>
          <p:nvPr/>
        </p:nvSpPr>
        <p:spPr>
          <a:xfrm>
            <a:off x="1332000" y="1700280"/>
            <a:ext cx="2735280" cy="72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5127"/>
          <p:cNvSpPr/>
          <p:nvPr/>
        </p:nvSpPr>
        <p:spPr>
          <a:xfrm flipH="1">
            <a:off x="1186920" y="1685880"/>
            <a:ext cx="1513080" cy="8064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5128"/>
          <p:cNvSpPr/>
          <p:nvPr/>
        </p:nvSpPr>
        <p:spPr>
          <a:xfrm flipH="1">
            <a:off x="2700360" y="1643040"/>
            <a:ext cx="1440000" cy="8492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5129"/>
          <p:cNvSpPr/>
          <p:nvPr/>
        </p:nvSpPr>
        <p:spPr>
          <a:xfrm>
            <a:off x="5681520" y="1671480"/>
            <a:ext cx="1338480" cy="8208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5130"/>
          <p:cNvSpPr/>
          <p:nvPr/>
        </p:nvSpPr>
        <p:spPr>
          <a:xfrm>
            <a:off x="7236000" y="1700280"/>
            <a:ext cx="1338120" cy="8208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5131"/>
          <p:cNvSpPr/>
          <p:nvPr/>
        </p:nvSpPr>
        <p:spPr>
          <a:xfrm flipH="1">
            <a:off x="5508720" y="1685880"/>
            <a:ext cx="3240000" cy="7351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11600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392436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7"/>
          <a:stretch/>
        </p:blipFill>
        <p:spPr>
          <a:xfrm>
            <a:off x="673272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8"/>
          <a:stretch/>
        </p:blipFill>
        <p:spPr>
          <a:xfrm>
            <a:off x="1042920" y="551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9"/>
          <a:stretch/>
        </p:blipFill>
        <p:spPr>
          <a:xfrm>
            <a:off x="3924360" y="5516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0" name="组合 6148"/>
          <p:cNvGrpSpPr/>
          <p:nvPr/>
        </p:nvGrpSpPr>
        <p:grpSpPr>
          <a:xfrm>
            <a:off x="200160" y="1042920"/>
            <a:ext cx="8751600" cy="4772160"/>
            <a:chOff x="200160" y="1042920"/>
            <a:chExt cx="8751600" cy="4772160"/>
          </a:xfrm>
        </p:grpSpPr>
        <p:pic>
          <p:nvPicPr>
            <p:cNvPr id="1051" name="图片 1" descr=""/>
            <p:cNvPicPr/>
            <p:nvPr/>
          </p:nvPicPr>
          <p:blipFill>
            <a:blip r:embed="rId1"/>
            <a:stretch/>
          </p:blipFill>
          <p:spPr>
            <a:xfrm>
              <a:off x="200160" y="1042920"/>
              <a:ext cx="8743680" cy="47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图片 6147" descr=""/>
            <p:cNvPicPr/>
            <p:nvPr/>
          </p:nvPicPr>
          <p:blipFill>
            <a:blip r:embed="rId2"/>
            <a:stretch/>
          </p:blipFill>
          <p:spPr>
            <a:xfrm>
              <a:off x="741240" y="1633680"/>
              <a:ext cx="8210520" cy="41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椭圆 6149"/>
          <p:cNvSpPr/>
          <p:nvPr/>
        </p:nvSpPr>
        <p:spPr>
          <a:xfrm>
            <a:off x="1476360" y="306864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椭圆 6150"/>
          <p:cNvSpPr/>
          <p:nvPr/>
        </p:nvSpPr>
        <p:spPr>
          <a:xfrm>
            <a:off x="5003640" y="314172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椭圆 6151"/>
          <p:cNvSpPr/>
          <p:nvPr/>
        </p:nvSpPr>
        <p:spPr>
          <a:xfrm>
            <a:off x="7308720" y="306864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椭圆 6152"/>
          <p:cNvSpPr/>
          <p:nvPr/>
        </p:nvSpPr>
        <p:spPr>
          <a:xfrm>
            <a:off x="1403280" y="530064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椭圆 6153"/>
          <p:cNvSpPr/>
          <p:nvPr/>
        </p:nvSpPr>
        <p:spPr>
          <a:xfrm>
            <a:off x="4427640" y="530064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03:01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